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2341-7979-4A12-9EB8-0257DC967E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D77-3CBD-416D-8F5B-7C1B1702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8EC-6D47-4AA0-807D-CA211E2A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349-E2E7-404C-99C9-DC1BADAA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5EA-D752-46AF-A09D-398816F8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7FD-FCE2-455D-9964-CFA84974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909-1C4E-4DBA-B105-62696D70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10D-D458-4E0F-ACA9-D2AACA43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035-DEAA-4B0E-8C18-1958ED87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BAF-7883-4A96-9CAA-1B6BA5AE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ABB-07FB-471C-8C72-F3E879A4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ADC-E732-4E53-BC8C-69355A16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3AD-3D73-44DF-9B3A-70E1997E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E8D4-5552-4D98-9005-A16A09FC349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LEGION</cp:lastModifiedBy>
  <dcterms:modified xsi:type="dcterms:W3CDTF">2017-07-03T11:27:00Z</dcterms:modified>
  <cp:revision>8</cp:revision>
  <dc:subject>Why did the Mormons Manage to survive Salt Lake City?</dc:subject>
  <dc:title>Why did the Mormons Manage to survive Salt Lake City?</dc:title>
</cp:coreProperties>
</file>